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AFB-AD17-44B1-968F-3C8EBF90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8F0-C41C-404C-A02A-88132E9A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E8658-68B5-458E-97A2-2D8B5FBA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8B138-59E6-4400-8C52-3BC1411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E2788-D53E-43EA-A670-4C5CC49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75BD8-4D69-4874-BA1B-04FA7C8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84169-C02F-4009-A119-F96BF58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EB18-E8BA-441F-92E7-FDB496E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D3669-BB9B-48FF-AFB6-F3386EDC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AFED-CB08-4C71-BB27-2961234A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45E79-9E53-4F24-8E91-749ED5B2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BBEF6-E41A-434B-9219-790EFF46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28F-E10C-4980-AF84-F0CFB61F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B8F02-ACA6-4450-A285-ACBB1DC6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0535E-39C8-44AD-96E3-F1FD746E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28CA7-83C0-4494-B6CD-D9B2FF64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C02D8-9EA3-449F-B27B-43694002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824E7-C95B-47C4-9661-80F92B64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69E4E-D3C8-40B6-847A-9B0756C9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FB40C-07BB-41C8-BA64-D56B15A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9E82E-4266-4EBF-B303-C3E5745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0E8DE-E7E2-4544-B42A-1F1B2D37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888B9-B83C-4F84-99C9-DF1DD367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468-A7FE-41E4-85C8-02622EF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F22DA-13D1-4363-BE45-F1337BF8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51426-DAD5-4D6F-9D93-9C853E24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56CC-DCFB-4BF8-BB7D-D50911D5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FD559-CA94-4B08-BE61-CB87E08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FFE7C-66C9-4E91-856F-06B8A1AB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0708-33B2-4F61-8451-B349EF4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B43DE-B7D0-4E23-A41F-2A1F7F11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DCAE1-7F16-4E2A-8E15-E1B1DA08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9C542-AF15-4D9C-BAB1-FA6948A8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4BC90-68F6-4055-8104-51F89AD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A73A-FEDD-4BBD-869A-9E6C9D35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0BF8-445E-49D5-B8C0-0B6B4978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D5EA-288F-4334-8C9E-71F4522B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D6B0F-1A3E-4030-8F46-E03DB9FF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FC1E4-69EB-44BF-82EB-C62F059A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6929B-53F7-4ECD-A77E-35393CB5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33B0C-D791-4DFF-887D-39978FD6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C7FA3-0EBA-4F78-836D-50306D69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7257F-930E-4A43-8F51-A839ECED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D6354-F212-400F-AFD7-E69E29D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B8D5C-8531-4A7E-808D-DEDE08B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9E5-88F8-4AF4-BFE1-29DE7DBE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AE2C8-6845-4A0C-9C9A-BEBB30A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8B04D-13C6-41D1-908D-8167BDA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6E82A-5997-4D23-85AF-BCBBD812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E5EC4-1F1D-42BA-BA76-A8F014E9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D08F9-7DF0-4E83-96F2-10952EBC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A299-604E-4734-829D-F5AE93EA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4B2-8A48-473A-A03E-6A4DF229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A360-AF21-448C-8281-06CE2A8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9466-7410-4ED1-86A2-B4C1B5F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53E-3DD6-49E7-BEE8-D982983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9AE-D002-4FE0-91DB-1623984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6840-0A95-496A-88F9-395313C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14A4-DA02-4D3A-97B9-1F393672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EF4B-3FB6-4B90-BF9B-1C8B2FFA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AED4-6014-40C6-BC6A-C25817D4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31D1-3553-4655-B146-13B08386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4FAA-EBBA-437F-AC4E-CE71ECA1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2AE2-B04C-4F58-852E-DAE3F468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9CE9-4C6D-4524-B5C9-FE114F8C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9D90-D36E-498F-96C9-AF9C8E8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B7FC-97AE-46EE-A5AE-91AA1E1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B8F-470B-4331-9444-34E435F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50A5-871B-4696-88AD-B0BF77C7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3AE5-69FC-4273-80A3-147629E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57F5-F349-4247-8700-65A210D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E228-1DF6-4047-8FCD-7D6300C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9F84-CF7D-4DE1-88E2-EDCFA15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408F-737C-4ECE-8B4F-859E3C01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BA6F-74F7-4914-8803-224C9D71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E30D-D22E-42A1-B336-01196DBC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A9A7-D6C3-4028-AC77-5E0A239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B8D7-6F4D-4D58-A5D7-67265F9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8AB-32D9-439F-84EF-CEEEB65E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C3A5-611A-4A6C-A8E9-1C0753D2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EF3B-6DA3-4E27-A031-5264DDD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4FA8-E0CD-4C46-BB05-4E90F0F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4F9A-E5CA-4D5C-B19E-B4D0F04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418C-A83D-4AA1-A146-31EC2CD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CB96-0873-4F9D-9A68-7D14F38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65C7-18C6-4127-8E5B-96F7E363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F5F1-BCDA-42B3-A92F-31F56833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4E008-BF74-4AF3-81D7-0FE50FAA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E5159-A58D-4279-8981-FDB69C04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C2D-4C22-4C56-AF15-44DC7F7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19B9-0347-4C6F-AF8C-C974F823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0DE37-81BD-45BA-8F5E-1C5FE266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A6B4-3189-4122-BF71-F4EBA3EF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0278-3BE3-406A-AF86-0D30D482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DA36-26BE-4918-8439-F35ADDB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32FD-EE11-4101-B388-9301520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FE0E-8FF3-4B90-8737-8AEA3460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3527-B73B-45CF-B1E3-86F452A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19B8-3FA1-449D-99AE-EEBD8A6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E6AE-2FDF-4D5C-86E1-2322DE5F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7FC-9348-4EE4-ACBA-639C4ED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A60F-D7EA-43BA-8408-A358871E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0E49-4760-4601-8DE7-E7C6DD9A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D7C6-ACB6-4B79-A714-CDF8C87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575B-2207-431B-9939-051419CE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7A60-B3F7-4145-848A-6C9D82A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9F9B-BC69-4685-8394-3A0C338F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4940-7ED4-44CF-9F0A-3083D87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68F7-6A9B-41CA-B87B-461BBDC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CCE53-8556-4C82-8EAD-0B75EF9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B6FB-6E02-425E-9838-993A291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37F-CBFE-4018-8CC8-2B81BF6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65E0-C89B-499C-8487-F2AE0B3A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AA5C-ECB1-4220-BE24-19C097D9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0B088-2E69-4C9F-B91F-D43D2DCA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CEBC-0E1D-434B-8EBF-705D9AE5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BBEC-6FE0-488D-93B4-095C934A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B01C2-9F04-4B11-B851-E03B391A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D9149-E7AA-4102-AA10-027DE972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CFF0-3B5C-4AA6-B08F-C57EEBD2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55F5-BEE9-4465-B4BF-19EC673C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FF21-FE0A-4B11-9A56-E3FF7719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2CF-A51E-40C0-BC32-364B3D8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009B0-F1E7-4573-9223-B81C2A2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B0639-C605-4562-A892-EAEFFAD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FBCF-6E0A-438B-BBAF-49A7122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001B-A061-4DFB-9C40-C5F627FD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E30E-1430-4CBB-B2A9-0DDA5279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4F212-974C-4916-A06D-3479284E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17F1-F5EF-461C-AC4D-931D895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CC69C-19D6-41D2-A461-7D0CD840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1892A-C300-4080-97E8-3634018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B8B6-37C8-4C83-B47C-BBBD8D28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7C5-264E-4CDB-951B-1197F5A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0A4AB-8BCA-4A76-AB72-D1587D43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0A404-CA6F-40F8-9353-22209A7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5F7A-7CB4-410E-8BC0-C1D8535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C387-8BA6-46F2-938C-B142678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12A8-B4EB-401B-A8B4-6427DA76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462C6-A864-4B73-9EAD-AC8A70F7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450D-8931-49C3-80CE-A3422401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8034E-3C1B-4732-9D28-1666A6DD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1E5E2-EAE0-40F0-8104-F8104392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4AF75-0E51-4433-8884-36627B35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A842-D70E-4843-8F2D-E3F10D8139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69C-EB32-4F3B-A07D-786A15917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49D-1A3E-48B8-A8D9-FF17CC7DA6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E1BF-2C19-41B4-8313-A0DF8625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B0FF-7DA6-4F32-A2C3-759A9C1131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0BA-D96E-4820-B724-24D4E664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46A0-585C-4454-B161-D51DC7B2FE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6FC-3729-4213-BB91-A4F67BFB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C448-658D-4833-BEBF-4EB17976E7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C33F-59B1-456B-B0C3-A15E2E15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0C8-8A21-445A-86F2-C415345565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91C6-03A4-4648-B2DD-1F0B9C18E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E7F6-D6B5-41B4-B68E-B274F34F51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D9C-6A6F-400B-A4E8-92EAE1C7C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21EE-7F4A-4D8A-ABF5-A0F3925AA3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764-CC6C-429F-B8C4-F396E851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03C5-1132-414D-B555-CC96BD6B41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0825-DBB7-46C8-ACBA-8F6750712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4303-4039-429E-8B6A-BBAB0BC9A3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50C-1F59-4609-B111-6936CE3C2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FE8F-A611-4919-9515-423B410192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2F9B-316A-461C-B473-93E4D6381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EEB-8392-44DA-8A97-E6EA41DCC6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D2B-905F-4B8C-BD1B-67DFC918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se two biomes have summer, fall, winter, and spr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Grassland and temperate deciduous fore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biome has cacti with waxy exteriors and sharp thorns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biome has trees with long pointed leaves that shed wa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Tropical Rainfores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is biome has plants like grass, moss, and lichens but NO tree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Tundra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s biome has trees whose leaves change color and fall off in autumn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This biome is hot in the day and cold at night.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ese two biomes have evergreen trees with needle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aiga and Temperate Rainforest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biome has animals that are mostly nocturna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aptations like large ears and short fur help animals survive in this biom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daptations like thick fur and small ears help organisms survive in this biom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und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A trait that helps an organism survive in its environment is called this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657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animal would survive best in this bio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1574640"/>
            <a:ext cx="3962520" cy="528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Tropical Rainfores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is another name for a living th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ll organisms are made of thes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This is the word scientist use to refer to a parent’s children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hese 3 things are the goals of an organism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o grow, develop, and reproduc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biome has permafrost and long cold winter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An organism needs these four things to survive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od, water, living space, and stable internal condition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Scientist call the process of maintaining internal conditions thi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is the process plants use to make food from sunlight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This is the process organisms use to break sugar down into energ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This is another word for an autotroph that can make its own food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roducer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undra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ese organisms get their energy from consuming dead organism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is biome gets lots of precipitation and is warm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opical rainfor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is biome is cool and gets lots of precipitation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Temperate rainfor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0:39:16Z</dcterms:created>
  <dc:creator>Eleanor M. Savko</dc:creator>
  <dc:description/>
  <dc:language>en-US</dc:language>
  <cp:lastModifiedBy>Caroline Roth</cp:lastModifiedBy>
  <dcterms:modified xsi:type="dcterms:W3CDTF">2010-10-05T11:08:56Z</dcterms:modified>
  <cp:revision>47</cp:revision>
  <dc:subject/>
  <dc:title>Blank Jeopardy</dc:title>
</cp:coreProperties>
</file>